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7B7-0B3A-410D-AFD8-B017852D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D69-2426-4602-9EDC-F805BBE8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5EF4B-3458-4F99-95C1-4F0150A8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097A1-79FC-4312-99C1-7D5B4AB7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4E855-48ED-4EED-A6CF-34773BB8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188D3-F834-47DF-BAD4-37875D32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E6C95-B097-4767-A183-F088229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B80E3-B3E7-4600-919E-D1BEC917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D7B70-27FC-4DEC-8EBA-E6253302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1E2D7-52BA-4301-89E3-F0985DAC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C18FE-9B18-4617-A445-ACC7B6DE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681-7515-41FE-BD31-66034FC7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9EF-6C7E-4853-80B7-796C7C36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31EE-8A0F-4F76-A698-F781F3F2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FEF2-B40E-4881-8F7F-DC05037D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61D0-FF16-48B5-AA71-1E5DABB2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4373-03D3-4FEC-AC65-B6FDFAE8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2FC4-1E6A-4819-993B-DD663CFE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8491-5406-45A3-B153-FCE715F7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DE2E-CE96-4E43-85DD-E7A3D9D3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E9B-7262-44E1-A355-BE7C57B1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D8B7-1040-47EB-9D04-471C17C7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2D52-9E9D-4B62-8646-60B607D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AC27-8DE4-4E1B-90D8-31244429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9053-11F7-4645-960F-8B8300F1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4572-7858-46B2-9B62-8D1FAA41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B50C-B131-4BAB-969B-A69FDB43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8334-A497-441D-AFE4-6279A252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CD96-0FFC-4865-94FC-87528F9A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7F50-4CF1-45CB-B035-A2CA802B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9574-3418-4D37-A552-C142C797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FA4-95B5-49E7-B535-A5989DEC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9124-3C5D-45D5-8D01-A4270645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494E-DCB9-41EC-B35F-B7083CE3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4346A-E496-492A-8B95-C2A414BA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4D420-AD1A-42B3-A73A-6CFF0F4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305F-8B89-4FC7-8BAC-E7D69C72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7954C-D729-4746-A5E9-3C70BB16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6A7EC-84ED-4D56-874A-EE5DEA67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47C5-0B5E-46D1-9D6C-166D9C41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64879-F474-4B76-95AA-AC6AEA90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198D8-6F77-44E7-A539-BF25019A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535-A5F3-485B-AA7E-71D7895E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4DDB-A628-4A46-863B-B112ED2D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BBC86-8C2B-4325-A8B6-62ACA3D9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71738-8C00-46C2-AA4E-837F7B23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9B3C1-3841-40A3-A16B-36CDD8D9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36D47-F893-4592-94EF-A11B0504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ABB5-98E3-4845-B77C-EAF95BCD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82E3B-EF17-4C02-BDFD-7538B16D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CFEB-042D-4A41-A174-9062E927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F4195-3FBB-416C-81F3-ADF6AEC8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874B8-E2AB-4EB0-9C55-899A73EB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B72-8FA0-486F-932E-589A6F12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A365E-C9B4-4117-BBD3-04D0F2D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35513-40A1-4537-8111-5FFF6FE9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A1BC9-DFD2-402C-B74F-D5679F1E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A1D6-E375-4BEF-8FC4-3C03807E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E11E5-3F90-4789-AD9F-1F251DAE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FE560-DE5A-49B2-8D8A-2F1208DB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9EC56-AA0E-4BB4-B60C-6AC78778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0A913-0F6C-40D1-BC17-14C9356C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092B9-0C29-4CF1-9B44-9D5F8542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9D650-DC0C-4FA6-9981-20A7A65E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E22-22CD-4298-B74C-E802A203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C61DF-708A-41A6-8323-F3FE2794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72F59-7511-41DD-B3E3-4C1833C2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DBF20-2AA2-45ED-8140-FC5ED215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2B1B2-B865-4F87-8CB1-4E95364E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C5D3-A00C-4270-8B30-EEF01D14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4AD87-7405-4BB2-A4BB-24FC76B1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874F3-68D7-4C5C-B0DA-C726D0C8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44057-D53B-4D4E-8CF6-19638F1C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0A465-2B25-4F6F-9351-33019918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5E5C4-3F4D-462B-986F-053AECD2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970-5DC7-4BEE-81C9-A23DE261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4C924-DD23-4331-85AD-DDCF73EA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09189-552F-4CD7-9CDD-A5BA4A8A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99980-9B2A-46B6-8CCD-EA6B740B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85B3C-34CD-44B5-8534-26D224F4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C81EE-9277-4B8A-A4FD-7E441737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032DC-8902-4B6C-9F07-0019D9AC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F844D-ADA0-48D6-AF02-62C0F4A0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741F2-335A-4FB7-8120-A3980E4F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7B635-8FB7-4FC7-95D6-1358ADE1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44CC1-BD45-4EAD-9E28-4D5EFC1F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EDA-6F97-4E51-BBD8-6F7DBEB1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F67F8-A86A-42BD-9C40-E09659B8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D34E4-1E8E-4EDE-8784-FDEFCC58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A0EF6-2198-4809-AA89-7122BFCF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57891-35AA-4436-B5AB-42A454AF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59299-E116-4AAA-B8B4-7D70F01A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B3446-B398-488A-A963-FBCFE5A9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6551B-2670-413D-929E-24AAD0E1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71FBB-0C82-4559-83A7-140AAA44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0C54C-6625-4F3E-87CF-45B7BEA6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D77EF-DA22-4940-BBF3-68C3A1C0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08D-1723-4E1D-A498-BB7C752A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3A08B-C175-44DC-87B5-56E57EBB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4735C-C6D2-4B41-B6CE-0323D898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39EAB-82A3-4E49-A639-2882447F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737EC-564B-4B46-8E7D-FF38E737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BB563-8E64-4BCE-A3AC-49BF78E8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B3FF3-188B-4ED1-8A7E-CD6C7E23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9D534-9279-4AA4-8F67-CF28145A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51282-D746-4E7F-B2A2-39DE974F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DB222-3393-442E-8F18-EE384C5F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35394-68A1-4B67-9E1D-BAF87B1B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Click to edit the title text format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59C1-1A27-4CB0-A679-52D1AEABB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7BAD-BA00-4759-ACBF-5A00C25D9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62E6-9B77-4B43-B4D8-C623CA0A7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676160" y="2331720"/>
            <a:ext cx="7467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76EA-CBF4-4C12-BFD9-BBBED9FAB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07E2-BC04-4AE2-8AFC-82382DDFF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B986-1125-418E-8A21-D76CD7A34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676160" y="2331720"/>
            <a:ext cx="7467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BAC8-13F6-4340-841B-47C422A0B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9174-08BF-479E-BFC3-925153063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651E-1BFB-4333-BADB-F751DCC88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2.4: linear inequalities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8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X-intercept method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33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so that f(x)&lt;0.  X intercept becomes the turning point for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1&gt;2x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&gt;3x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5867280" y="3505320"/>
            <a:ext cx="2719440" cy="279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Your assignment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21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4-13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2-40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44, 48, 64, 68, 86, 88,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Objectives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33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basic vocabulary related to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terval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linear inequalities symbolically, numerically, and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compound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Vocabulary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44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quality: compares two items using &lt;, &gt;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, or 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x&gt;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form of linear inequality: ax+b&gt;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 set: values that make an inequality a tru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und inequality: two inequalities connected by “and” or “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&gt; 5 or x&l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1&lt;x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Interval notation (page 1)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bound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if not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if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f not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if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gt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xtends towar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a, ∞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lt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xtends toward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-∞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Interval notation (page 2)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32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extends towa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[a, ∞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extends towards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-∞, 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lt;x&lt;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≤x≤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Interval Notation (page 3)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39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 b) is called an open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 b] or [a, b) is called a half-open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, b] is called a closed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∞ or -∞ is involved, it is an infinite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Symbolic method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76520" y="2332080"/>
            <a:ext cx="73152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 the algebraic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same way you would solve a linear equation, except that if you multiply or divide by a negative, you must switch the direction of the inequality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x+1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 x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Numerical method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5638680" cy="27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hart to find the values greater than, less than, and equal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&gt;3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1&lt;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629400" y="2666880"/>
          <a:ext cx="2057400" cy="3733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Graphical solution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r inequality as f(x)&gt;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(x) and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&gt;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&lt;x+1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867280" y="3048120"/>
            <a:ext cx="2719440" cy="279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3:45:50Z</dcterms:created>
  <dc:creator>nuhs</dc:creator>
  <dc:description/>
  <dc:language>en-US</dc:language>
  <cp:lastModifiedBy>nuhs</cp:lastModifiedBy>
  <dcterms:modified xsi:type="dcterms:W3CDTF">2008-01-18T21:26:30Z</dcterms:modified>
  <cp:revision>4</cp:revision>
  <dc:subject/>
  <dc:title>2.4: linear inqualities</dc:title>
</cp:coreProperties>
</file>